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52280" y="6400800"/>
            <a:ext cx="6858000" cy="304920"/>
          </a:xfrm>
          <a:prstGeom prst="roundRect">
            <a:avLst>
              <a:gd name="adj" fmla="val 24306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152280" y="142920"/>
            <a:ext cx="8840880" cy="100008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53b60"/>
              </a:gs>
              <a:gs pos="100000">
                <a:srgbClr val="0a80d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8"/>
          <p:cNvSpPr/>
          <p:nvPr/>
        </p:nvSpPr>
        <p:spPr>
          <a:xfrm>
            <a:off x="8534520" y="6400800"/>
            <a:ext cx="457200" cy="304920"/>
          </a:xfrm>
          <a:prstGeom prst="roundRect">
            <a:avLst>
              <a:gd name="adj" fmla="val 24306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64400" y="644364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6D5A-CDED-47EB-92F9-CE85765FD225}" type="slidenum"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0"/>
          <p:cNvSpPr/>
          <p:nvPr/>
        </p:nvSpPr>
        <p:spPr>
          <a:xfrm rot="10800000">
            <a:off x="254160" y="1142640"/>
            <a:ext cx="457200" cy="228600"/>
          </a:xfrm>
          <a:prstGeom prst="triangle">
            <a:avLst>
              <a:gd name="adj" fmla="val 50000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7140600" y="6431040"/>
            <a:ext cx="1235160" cy="245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5e5e5e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228600" y="6400800"/>
            <a:ext cx="670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eloxum  Corporation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www.veloxum.com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©2007 -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1523880"/>
            <a:ext cx="9144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ACO solution improves the efficiency and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 your environment for both physical and virtual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creates specific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eliminate efficiency and capacity restrictions ca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y improper and non-optimal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immediately reduces expense account and capital expenditures by allowing you to better utilize the systems and resources you already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5360" y="352440"/>
            <a:ext cx="85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bout Velox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457200" y="1371600"/>
            <a:ext cx="86868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overall CPU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Less CPU = Less Power Consumed + Less Hea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PU utilization reductions of up to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Works with multiple generations of hardware and 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does not require new equi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syste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cations are more respo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ramatically improved network and disk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Less systems are needed to perform the sam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oes not require administrators to replace exis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d improvement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icrosoft - Exchange, SharePoint, 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VMware – ESX 3.5/4.x and vSpher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upport for Windows, Linux, AIX, OSX and So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rove Efficiency Operations &amp;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228600" y="1371600"/>
            <a:ext cx="86868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ed appliance and clients with little or no required assistance by Velox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of 120+ servers/workstations optim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loyed Veloxum agents on workstations/servers have posed no performanc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ance has been executed on downrev/spare equipment with no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IT staff have been trained and understand the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urrent Status (02/08/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609480" y="1371600"/>
            <a:ext cx="86868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mproved networking throughput by 4x - 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creased disk latencies on servers by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tected and documented misconfigured network ports across entire network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mproved backup throughput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tected dramatic disk bottlenecks related to Symantec Backup Ex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ding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Helping with improvements to Backup Ex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lete benchmarking of improvements to file servers and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urrent Results (02/08/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28600" y="1371600"/>
            <a:ext cx="8686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are systems licen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ach ESX host requires a lic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ach Guest OS requires a lic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o extra license for monitoring vs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ppens if a license expi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timizations remain un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ctive monitoring/optimizations are suspended.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28600" y="1371600"/>
            <a:ext cx="86868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uninstalls cl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o hooks or components are left beh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Uninstalls executed on the guest will not rescind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Uninstalls may also be performed from the Veloxum GUI in order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87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Remove Veloxum software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timizations from a g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87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iscontinue further optimizations on a guest, leaving past optimizations 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28600" y="1371600"/>
            <a:ext cx="86868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clients run within different VL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clients communicate with the appliance via outgoing connections from the guest 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lients are able to operate via web prox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lients may communicate using any configurable/available port, like 443 (SS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ances may be configured to use multiple, bridged virtual network adapters which span multiple V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ances may be cloned to operate in different V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28600" y="1371600"/>
            <a:ext cx="86868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Veloxum customers willing to act as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BOCES has already met with Maimonides Medical Center in Brooklyn, 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nother large, multi-homed user of VMware &amp; Citrix on servers will be mad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45:21Z</dcterms:created>
  <dc:creator>Michael Lazar</dc:creator>
  <dc:description/>
  <dc:language>en-US</dc:language>
  <cp:lastModifiedBy>Staff</cp:lastModifiedBy>
  <cp:lastPrinted>2008-02-08T14:25:00Z</cp:lastPrinted>
  <dcterms:modified xsi:type="dcterms:W3CDTF">2011-04-08T16:47:06Z</dcterms:modified>
  <cp:revision>52</cp:revision>
  <dc:subject/>
  <dc:title>PowerPoint Presentation</dc:title>
</cp:coreProperties>
</file>